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D9A7-430D-4569-9593-BE89CBA5D7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7FD2-0607-4399-9D5D-D949E28D23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CE855095-7B02-4AB6-8210-8113175ACF9B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18B0-88B6-4C17-8256-512C68FA46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3560" bIns="4356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AB33A0AA-28FF-48A8-B7FB-5EA99993E89F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BEF-038F-4668-A064-B62135A8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2B4F-411F-4F89-9833-6EB2D300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3479-D87B-4655-9B8C-7773202B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F53-337D-42BD-8D18-FC89C900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5AB9-1E8D-4B6F-8726-1314E5F9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29CA-4AC0-4173-9D18-B967889C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1D87-C30E-4157-9D7B-051ADFA2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8CF1-DAF4-42FF-AFE3-4C5DC0B5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7451-8E74-4E38-BAA9-E841D3D1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FB2-402F-4DC4-A19E-67BAE727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3EE-317D-403D-9D1E-3EF08F8C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FECA-3E34-4D89-B14D-03146E12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323A-E278-4593-BBF7-2499A405C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4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zw"/>
          <p:cNvPicPr/>
          <p:nvPr/>
        </p:nvPicPr>
        <p:blipFill>
          <a:blip r:embed="rId1"/>
          <a:stretch/>
        </p:blipFill>
        <p:spPr>
          <a:xfrm>
            <a:off x="3492360" y="476280"/>
            <a:ext cx="3672000" cy="2754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7640" y="1197000"/>
            <a:ext cx="3095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Zimbabw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2"/>
          <a:srcRect l="32486" t="29532" r="1367" b="5500"/>
          <a:stretch/>
        </p:blipFill>
        <p:spPr>
          <a:xfrm>
            <a:off x="3492360" y="3429000"/>
            <a:ext cx="3672000" cy="288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5" descr="http://www.sendacow.org.uk/lessonsfromafrica/_assets/img/illustration_contact_us.jpg"/>
          <p:cNvPicPr/>
          <p:nvPr/>
        </p:nvPicPr>
        <p:blipFill>
          <a:blip r:embed="rId3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4"/>
          <a:srcRect l="11811" t="10338" r="53935" b="70472"/>
          <a:stretch/>
        </p:blipFill>
        <p:spPr>
          <a:xfrm>
            <a:off x="250920" y="4508640"/>
            <a:ext cx="2665440" cy="1195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AI-logo.jpg"/>
          <p:cNvPicPr/>
          <p:nvPr/>
        </p:nvPicPr>
        <p:blipFill>
          <a:blip r:embed="rId5"/>
          <a:stretch/>
        </p:blipFill>
        <p:spPr>
          <a:xfrm>
            <a:off x="1692360" y="5661000"/>
            <a:ext cx="58716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Morning clas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7200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 first lesson starts at 7.15am. We have two lessons before break time which starts at 10am and two lessons afterwar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orning subjects are; English, Shona or Ndebele &amp; Ma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about 30 children in the class, and we work in groups of about 5 or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3314880" y="2519280"/>
            <a:ext cx="25146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314880" y="2519280"/>
            <a:ext cx="25146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9"/>
          <p:cNvSpPr/>
          <p:nvPr/>
        </p:nvSpPr>
        <p:spPr>
          <a:xfrm>
            <a:off x="76320" y="-27000"/>
            <a:ext cx="25146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children_in_school_400"/>
          <p:cNvPicPr/>
          <p:nvPr/>
        </p:nvPicPr>
        <p:blipFill>
          <a:blip r:embed="rId1"/>
          <a:stretch/>
        </p:blipFill>
        <p:spPr>
          <a:xfrm>
            <a:off x="2124000" y="3213000"/>
            <a:ext cx="4319640" cy="2743200"/>
          </a:xfrm>
          <a:prstGeom prst="rect">
            <a:avLst/>
          </a:prstGeom>
          <a:ln w="0">
            <a:noFill/>
          </a:ln>
        </p:spPr>
      </p:pic>
      <p:sp>
        <p:nvSpPr>
          <p:cNvPr id="112" name="Straight Connector 10"/>
          <p:cNvSpPr/>
          <p:nvPr/>
        </p:nvSpPr>
        <p:spPr>
          <a:xfrm>
            <a:off x="0" y="76500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5" descr="http://www.sendacow.org.uk/lessonsfromafrica/_assets/img/illustration_contact_us.jpg"/>
          <p:cNvPicPr/>
          <p:nvPr/>
        </p:nvPicPr>
        <p:blipFill>
          <a:blip r:embed="rId2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Lunch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734544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an hour for lunch, and usually go outside to pla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 children bring their own packed lunch, some buy food from the tuck shop, and some children who live close enough will go home for lu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7"/>
          <p:cNvSpPr/>
          <p:nvPr/>
        </p:nvSpPr>
        <p:spPr>
          <a:xfrm>
            <a:off x="0" y="76500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5" descr="http://www.sendacow.org.uk/lessonsfromafrica/_assets/img/illustration_contact_us.jpg"/>
          <p:cNvPicPr/>
          <p:nvPr/>
        </p:nvPicPr>
        <p:blipFill>
          <a:blip r:embed="rId1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://partners4africa.com/wp-content/uploads/2012/02/IMG_2752.jpg"/>
          <p:cNvPicPr/>
          <p:nvPr/>
        </p:nvPicPr>
        <p:blipFill>
          <a:blip r:embed="rId2"/>
          <a:srcRect l="36879" t="0" r="0" b="0"/>
          <a:stretch/>
        </p:blipFill>
        <p:spPr>
          <a:xfrm>
            <a:off x="430200" y="2852640"/>
            <a:ext cx="3384720" cy="2705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t1.gstatic.com/images?q=tbn:ANd9GcQ5Eod9C4AgL_kNvW1rdZnWsB4Vrk0hhciiDUgjf754ZH7Wp4ixnkMTplct"/>
          <p:cNvPicPr/>
          <p:nvPr/>
        </p:nvPicPr>
        <p:blipFill>
          <a:blip r:embed="rId3"/>
          <a:stretch/>
        </p:blipFill>
        <p:spPr>
          <a:xfrm>
            <a:off x="3995640" y="2852640"/>
            <a:ext cx="2664000" cy="1744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blogs.telegraph.co.uk/news/files/2011/10/tanzania.jpg"/>
          <p:cNvPicPr/>
          <p:nvPr/>
        </p:nvPicPr>
        <p:blipFill>
          <a:blip r:embed="rId4"/>
          <a:srcRect l="7485" t="15945" r="0" b="0"/>
          <a:stretch/>
        </p:blipFill>
        <p:spPr>
          <a:xfrm>
            <a:off x="3995640" y="4794120"/>
            <a:ext cx="266400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Afternoon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7273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 the afternoon we have lessons like; football, netball, athletics, traditional dance, quiz, drama, poetry and 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essons finish at 2.30pm. For the last half an hour of the d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 clean and tidy our classroom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chool finishes at 3pm, and we walk h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3610080" y="2786040"/>
            <a:ext cx="192384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3276720" y="2565360"/>
            <a:ext cx="2619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cleaning_school_10-01_194"/>
          <p:cNvPicPr/>
          <p:nvPr/>
        </p:nvPicPr>
        <p:blipFill>
          <a:blip r:embed="rId1"/>
          <a:stretch/>
        </p:blipFill>
        <p:spPr>
          <a:xfrm>
            <a:off x="2268360" y="3141720"/>
            <a:ext cx="3908520" cy="2852640"/>
          </a:xfrm>
          <a:prstGeom prst="rect">
            <a:avLst/>
          </a:prstGeom>
          <a:ln w="0">
            <a:noFill/>
          </a:ln>
        </p:spPr>
      </p:pic>
      <p:sp>
        <p:nvSpPr>
          <p:cNvPr id="126" name="Straight Connector 9"/>
          <p:cNvSpPr/>
          <p:nvPr/>
        </p:nvSpPr>
        <p:spPr>
          <a:xfrm>
            <a:off x="0" y="76500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5" descr="http://www.sendacow.org.uk/lessonsfromafrica/_assets/img/illustration_contact_us.jpg"/>
          <p:cNvPicPr/>
          <p:nvPr/>
        </p:nvPicPr>
        <p:blipFill>
          <a:blip r:embed="rId2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Resourc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7273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ur classroom is usually decorated with charts showing drawings, graphs and problems that need answ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never enough  text books so we normally sh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metimes there is only one book for the whole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3992841285_31bec3c17a_b"/>
          <p:cNvPicPr/>
          <p:nvPr/>
        </p:nvPicPr>
        <p:blipFill>
          <a:blip r:embed="rId1"/>
          <a:stretch/>
        </p:blipFill>
        <p:spPr>
          <a:xfrm>
            <a:off x="1763640" y="2997360"/>
            <a:ext cx="4537080" cy="2920680"/>
          </a:xfrm>
          <a:prstGeom prst="rect">
            <a:avLst/>
          </a:prstGeom>
          <a:ln w="0">
            <a:noFill/>
          </a:ln>
        </p:spPr>
      </p:pic>
      <p:sp>
        <p:nvSpPr>
          <p:cNvPr id="131" name="Straight Connector 8"/>
          <p:cNvSpPr/>
          <p:nvPr/>
        </p:nvSpPr>
        <p:spPr>
          <a:xfrm>
            <a:off x="0" y="76500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5" descr="http://www.sendacow.org.uk/lessonsfromafrica/_assets/img/illustration_contact_us.jpg"/>
          <p:cNvPicPr/>
          <p:nvPr/>
        </p:nvPicPr>
        <p:blipFill>
          <a:blip r:embed="rId2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When I get ho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72738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en we get home and before it gets dark I help my parents to look after the cattle and goa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to take special care to make sure that the chicks and chickens are safe from foxes and wild ca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Then I have a bath before din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4119480" y="2814480"/>
            <a:ext cx="905040" cy="12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3" descr="chicken_and_nadi_10-01_481v"/>
          <p:cNvPicPr/>
          <p:nvPr/>
        </p:nvPicPr>
        <p:blipFill>
          <a:blip r:embed="rId1"/>
          <a:stretch/>
        </p:blipFill>
        <p:spPr>
          <a:xfrm>
            <a:off x="4336920" y="3076560"/>
            <a:ext cx="2409840" cy="3284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http://www.sendacow.org.uk/lessonsfromafrica/_assets/img/illustration_contact_us.jpg"/>
          <p:cNvPicPr/>
          <p:nvPr/>
        </p:nvPicPr>
        <p:blipFill>
          <a:blip r:embed="rId2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  <p:sp>
        <p:nvSpPr>
          <p:cNvPr id="138" name="Straight Connector 9"/>
          <p:cNvSpPr/>
          <p:nvPr/>
        </p:nvSpPr>
        <p:spPr>
          <a:xfrm>
            <a:off x="0" y="76500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://allafrica.com/download/pic/main/main/csiid/00211986:c22120cb9d152e92666de25e2ed66b01:arc614x376:w290:us1.jpg"/>
          <p:cNvPicPr/>
          <p:nvPr/>
        </p:nvPicPr>
        <p:blipFill>
          <a:blip r:embed="rId3"/>
          <a:stretch/>
        </p:blipFill>
        <p:spPr>
          <a:xfrm>
            <a:off x="1403280" y="3076560"/>
            <a:ext cx="2762280" cy="1685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polloplayer.files.wordpress.com/2011/12/gc-chickens-zimbabwe.jpg?w=455"/>
          <p:cNvPicPr/>
          <p:nvPr/>
        </p:nvPicPr>
        <p:blipFill>
          <a:blip r:embed="rId4"/>
          <a:stretch/>
        </p:blipFill>
        <p:spPr>
          <a:xfrm>
            <a:off x="2798640" y="4913280"/>
            <a:ext cx="13604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Dinner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7273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 dinner we have Sadza – a porridge cooked by mixing mealie meal with hot water to produce a thick pas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adza  is usually eaten with things like; spinach, cabbage and chomolia, beans, beef stew, chicken, curdled milk and dried fish (kapen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3563732_f260"/>
          <p:cNvPicPr/>
          <p:nvPr/>
        </p:nvPicPr>
        <p:blipFill>
          <a:blip r:embed="rId1"/>
          <a:stretch/>
        </p:blipFill>
        <p:spPr>
          <a:xfrm>
            <a:off x="1177920" y="3232080"/>
            <a:ext cx="2376360" cy="1598760"/>
          </a:xfrm>
          <a:prstGeom prst="rect">
            <a:avLst/>
          </a:prstGeom>
          <a:ln w="0">
            <a:noFill/>
          </a:ln>
        </p:spPr>
      </p:pic>
      <p:sp>
        <p:nvSpPr>
          <p:cNvPr id="144" name="Straight Connector 7"/>
          <p:cNvSpPr/>
          <p:nvPr/>
        </p:nvSpPr>
        <p:spPr>
          <a:xfrm>
            <a:off x="0" y="76500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5" descr="http://www.sendacow.org.uk/lessonsfromafrica/_assets/img/illustration_contact_us.jpg"/>
          <p:cNvPicPr/>
          <p:nvPr/>
        </p:nvPicPr>
        <p:blipFill>
          <a:blip r:embed="rId2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s://encrypted-tbn3.gstatic.com/images?q=tbn:ANd9GcTtSq9tkLqj2LyvlKhvBLALbZt16fSYmuyAEXeqA1hhX3uOnGBs5w"/>
          <p:cNvPicPr/>
          <p:nvPr/>
        </p:nvPicPr>
        <p:blipFill>
          <a:blip r:embed="rId3"/>
          <a:stretch/>
        </p:blipFill>
        <p:spPr>
          <a:xfrm>
            <a:off x="1744560" y="5013360"/>
            <a:ext cx="1800360" cy="1208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http://4.bp.blogspot.com/-6CiWpmRHZfg/T2wihqS9-DI/AAAAAAAAAE8/tUA_u7a_23s/s1600/4.3+Sadza+with+kapenta.JPG"/>
          <p:cNvPicPr/>
          <p:nvPr/>
        </p:nvPicPr>
        <p:blipFill>
          <a:blip r:embed="rId4"/>
          <a:stretch/>
        </p:blipFill>
        <p:spPr>
          <a:xfrm>
            <a:off x="3732120" y="3213000"/>
            <a:ext cx="36482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ed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72738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fore bedtime I get my homework done. My brothers and sisters help if I get stuck.  Then I get ready for b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 usually in the same room and bed as my broth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Kakiri_child_doing_homework1"/>
          <p:cNvPicPr/>
          <p:nvPr/>
        </p:nvPicPr>
        <p:blipFill>
          <a:blip r:embed="rId1"/>
          <a:stretch/>
        </p:blipFill>
        <p:spPr>
          <a:xfrm>
            <a:off x="611280" y="2492280"/>
            <a:ext cx="3673440" cy="244944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7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9" descr="child_under_net"/>
          <p:cNvPicPr/>
          <p:nvPr/>
        </p:nvPicPr>
        <p:blipFill>
          <a:blip r:embed="rId2"/>
          <a:stretch/>
        </p:blipFill>
        <p:spPr>
          <a:xfrm>
            <a:off x="4464000" y="3860640"/>
            <a:ext cx="2941560" cy="2021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5" descr="http://www.sendacow.org.uk/lessonsfromafrica/_assets/img/illustration_contact_us.jpg"/>
          <p:cNvPicPr/>
          <p:nvPr/>
        </p:nvPicPr>
        <p:blipFill>
          <a:blip r:embed="rId3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  <p:sp>
        <p:nvSpPr>
          <p:cNvPr id="154" name="Straight Connector 9"/>
          <p:cNvSpPr/>
          <p:nvPr/>
        </p:nvSpPr>
        <p:spPr>
          <a:xfrm>
            <a:off x="0" y="76500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7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5" descr="http://www.sendacow.org.uk/lessonsfromafrica/_assets/img/illustration_contact_us.jpg"/>
          <p:cNvPicPr/>
          <p:nvPr/>
        </p:nvPicPr>
        <p:blipFill>
          <a:blip r:embed="rId1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rcRect l="11811" t="10338" r="53935" b="70472"/>
          <a:stretch/>
        </p:blipFill>
        <p:spPr>
          <a:xfrm>
            <a:off x="2484360" y="1557360"/>
            <a:ext cx="2664000" cy="11937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AI-logo.jpg"/>
          <p:cNvPicPr/>
          <p:nvPr/>
        </p:nvPicPr>
        <p:blipFill>
          <a:blip r:embed="rId3"/>
          <a:stretch/>
        </p:blipFill>
        <p:spPr>
          <a:xfrm>
            <a:off x="5108400" y="2039760"/>
            <a:ext cx="587520" cy="58104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971640" y="3645000"/>
            <a:ext cx="4968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more resources a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dacow.org.uk/lessonsfrom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educationinitiatives.org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 us @Lessons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https://twitter.com/images/resources/twitter-bird-blue-on-white.png"/>
          <p:cNvPicPr/>
          <p:nvPr/>
        </p:nvPicPr>
        <p:blipFill>
          <a:blip r:embed="rId4"/>
          <a:stretch/>
        </p:blipFill>
        <p:spPr>
          <a:xfrm>
            <a:off x="1015920" y="4734000"/>
            <a:ext cx="4096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5"/>
          <p:cNvSpPr/>
          <p:nvPr/>
        </p:nvSpPr>
        <p:spPr>
          <a:xfrm>
            <a:off x="3776760" y="2948040"/>
            <a:ext cx="144756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i.telegraph.co.uk/multimedia/archive/01113/zimbabwe-inflation_1113681c.jpg"/>
          <p:cNvPicPr/>
          <p:nvPr/>
        </p:nvPicPr>
        <p:blipFill>
          <a:blip r:embed="rId1"/>
          <a:stretch/>
        </p:blipFill>
        <p:spPr>
          <a:xfrm>
            <a:off x="468360" y="404640"/>
            <a:ext cx="2717640" cy="170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http://media.lonelyplanet.com/lpi/24603/24603-23/469x264.jpg"/>
          <p:cNvPicPr/>
          <p:nvPr/>
        </p:nvPicPr>
        <p:blipFill>
          <a:blip r:embed="rId2"/>
          <a:stretch/>
        </p:blipFill>
        <p:spPr>
          <a:xfrm>
            <a:off x="1628640" y="4581360"/>
            <a:ext cx="3327480" cy="187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www.umich.edu/%7Eecondev/ecotourism_develop/northern_zimbabwe_globaleye-org-uk.jpg"/>
          <p:cNvPicPr/>
          <p:nvPr/>
        </p:nvPicPr>
        <p:blipFill>
          <a:blip r:embed="rId3"/>
          <a:stretch/>
        </p:blipFill>
        <p:spPr>
          <a:xfrm>
            <a:off x="5138640" y="3059280"/>
            <a:ext cx="2257560" cy="338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://i.telegraph.co.uk/multimedia/archive/02278/Harare_2278440b.jpg"/>
          <p:cNvPicPr/>
          <p:nvPr/>
        </p:nvPicPr>
        <p:blipFill>
          <a:blip r:embed="rId4"/>
          <a:stretch/>
        </p:blipFill>
        <p:spPr>
          <a:xfrm>
            <a:off x="3357720" y="395280"/>
            <a:ext cx="4036680" cy="2521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http://s367788146.websitehome.co.uk/wp-content/uploads/2009/06/full-zimbabwe-kids-in-line.jpg"/>
          <p:cNvPicPr/>
          <p:nvPr/>
        </p:nvPicPr>
        <p:blipFill>
          <a:blip r:embed="rId5"/>
          <a:stretch/>
        </p:blipFill>
        <p:spPr>
          <a:xfrm>
            <a:off x="468360" y="2276640"/>
            <a:ext cx="2736720" cy="213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http://www.osisa.org/sites/default/files/blog_images/welcome_to_zimbabwe.jpg"/>
          <p:cNvPicPr/>
          <p:nvPr/>
        </p:nvPicPr>
        <p:blipFill>
          <a:blip r:embed="rId6"/>
          <a:srcRect l="11550" t="0" r="3850" b="5126"/>
          <a:stretch/>
        </p:blipFill>
        <p:spPr>
          <a:xfrm>
            <a:off x="3367080" y="3084480"/>
            <a:ext cx="1584360" cy="1333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The view to the Vic Falls Hotel in Zimbabwe taken from the bridge."/>
          <p:cNvPicPr/>
          <p:nvPr/>
        </p:nvPicPr>
        <p:blipFill>
          <a:blip r:embed="rId7"/>
          <a:srcRect l="20358" t="2931" r="9955" b="0"/>
          <a:stretch/>
        </p:blipFill>
        <p:spPr>
          <a:xfrm>
            <a:off x="468360" y="4581360"/>
            <a:ext cx="10080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15560"/>
            <a:ext cx="7596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ictoria F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9"/>
          <p:cNvSpPr/>
          <p:nvPr/>
        </p:nvSpPr>
        <p:spPr>
          <a:xfrm>
            <a:off x="0" y="83664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5" descr="http://www.sendacow.org.uk/lessonsfromafrica/_assets/img/illustration_contact_us.jpg"/>
          <p:cNvPicPr/>
          <p:nvPr/>
        </p:nvPicPr>
        <p:blipFill>
          <a:blip r:embed="rId1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://www.zambiatourism.com/travel/places/images/Victoria_Falls-1.jpg"/>
          <p:cNvPicPr/>
          <p:nvPr/>
        </p:nvPicPr>
        <p:blipFill>
          <a:blip r:embed="rId2"/>
          <a:stretch/>
        </p:blipFill>
        <p:spPr>
          <a:xfrm>
            <a:off x="611280" y="1700280"/>
            <a:ext cx="676908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ancient city ‘Great Zimbabwe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ANd9GcQhi3Lo27huR7AOMJDonXKsev2yy66XgjpiyaROqs3QLZYDuToh2Q"/>
          <p:cNvPicPr/>
          <p:nvPr/>
        </p:nvPicPr>
        <p:blipFill>
          <a:blip r:embed="rId1"/>
          <a:stretch/>
        </p:blipFill>
        <p:spPr>
          <a:xfrm>
            <a:off x="4410000" y="1484280"/>
            <a:ext cx="2735280" cy="1820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ANd9GcRJ82QopEHI-UyAuZvo7VZVGz8zsnGwcvOC-iV8-9KR67m2Y_SC"/>
          <p:cNvPicPr/>
          <p:nvPr/>
        </p:nvPicPr>
        <p:blipFill>
          <a:blip r:embed="rId2"/>
          <a:srcRect l="0" t="0" r="2568" b="0"/>
          <a:stretch/>
        </p:blipFill>
        <p:spPr>
          <a:xfrm>
            <a:off x="4410000" y="3486240"/>
            <a:ext cx="2735280" cy="2103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warandgame.files.wordpress.com/2009/09/great-ruins.jpg"/>
          <p:cNvPicPr/>
          <p:nvPr/>
        </p:nvPicPr>
        <p:blipFill>
          <a:blip r:embed="rId3"/>
          <a:stretch/>
        </p:blipFill>
        <p:spPr>
          <a:xfrm>
            <a:off x="250920" y="1484280"/>
            <a:ext cx="3960720" cy="270684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7"/>
          <p:cNvSpPr/>
          <p:nvPr/>
        </p:nvSpPr>
        <p:spPr>
          <a:xfrm>
            <a:off x="0" y="83664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5" descr="http://www.sendacow.org.uk/lessonsfromafrica/_assets/img/illustration_contact_us.jpg"/>
          <p:cNvPicPr/>
          <p:nvPr/>
        </p:nvPicPr>
        <p:blipFill>
          <a:blip r:embed="rId4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wikitravel.org/upload/shared/thumb/2/2c/Great_Zimbabwe_panoramic.jpg/600px-Great_Zimbabwe_panoramic.jpg"/>
          <p:cNvPicPr/>
          <p:nvPr/>
        </p:nvPicPr>
        <p:blipFill>
          <a:blip r:embed="rId5"/>
          <a:srcRect l="0" t="0" r="0" b="10637"/>
          <a:stretch/>
        </p:blipFill>
        <p:spPr>
          <a:xfrm>
            <a:off x="250920" y="4379760"/>
            <a:ext cx="396072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79280" y="71280"/>
            <a:ext cx="741708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 day in the life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ral children in Zimbabw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6"/>
          <p:cNvSpPr/>
          <p:nvPr/>
        </p:nvSpPr>
        <p:spPr>
          <a:xfrm>
            <a:off x="0" y="134136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5" descr="http://www.sendacow.org.uk/lessonsfromafrica/_assets/img/illustration_contact_us.jpg"/>
          <p:cNvPicPr/>
          <p:nvPr/>
        </p:nvPicPr>
        <p:blipFill>
          <a:blip r:embed="rId1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http://4.bp.blogspot.com/_-Cs-Jlaza3o/S8HYbGLw3eI/AAAAAAAABJU/13hhRa13Zjc/s1600/Abel+and+four+children+in+rural+Zimbabwe+Apr+2010.jpg"/>
          <p:cNvPicPr/>
          <p:nvPr/>
        </p:nvPicPr>
        <p:blipFill>
          <a:blip r:embed="rId2"/>
          <a:stretch/>
        </p:blipFill>
        <p:spPr>
          <a:xfrm>
            <a:off x="1258920" y="19810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940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Waking 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6048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y day starts at 5:30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wake up, brush my teeth and have a was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3633840" y="2805120"/>
            <a:ext cx="1876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3633840" y="2805120"/>
            <a:ext cx="187632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9"/>
          <p:cNvSpPr/>
          <p:nvPr/>
        </p:nvSpPr>
        <p:spPr>
          <a:xfrm>
            <a:off x="0" y="76500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5" descr="http://www.sendacow.org.uk/lessonsfromafrica/_assets/img/illustration_contact_us.jpg"/>
          <p:cNvPicPr/>
          <p:nvPr/>
        </p:nvPicPr>
        <p:blipFill>
          <a:blip r:embed="rId1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://artforgorillas.wildlifedirect.org/files/2010/03/Brushing-teeth-at-least-twice-daily.-Rushubi-Primary-School.-AoC-2010.jpg"/>
          <p:cNvPicPr/>
          <p:nvPr/>
        </p:nvPicPr>
        <p:blipFill>
          <a:blip r:embed="rId2"/>
          <a:stretch/>
        </p:blipFill>
        <p:spPr>
          <a:xfrm>
            <a:off x="1835280" y="2324160"/>
            <a:ext cx="4897440" cy="32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Breakfast ti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72738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y mother makes breakfast for 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 have ei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ota – a thin porridge flavoured with peanut butter, butter or   milk and sug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cup of tea with bread and butter, jam or peanut butt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0" y="76500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farm4.static.flickr.com/3386/3411672402_3ef796aeb1.jpg"/>
          <p:cNvPicPr/>
          <p:nvPr/>
        </p:nvPicPr>
        <p:blipFill>
          <a:blip r:embed="rId1"/>
          <a:stretch/>
        </p:blipFill>
        <p:spPr>
          <a:xfrm>
            <a:off x="395280" y="2914560"/>
            <a:ext cx="2370240" cy="2962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http://sphotos-a.xx.fbcdn.net/hphotos-ash4/c0.0.800.382.44365361803/p843x403/2017_10151255597218126_686808877_n.jpg"/>
          <p:cNvPicPr/>
          <p:nvPr/>
        </p:nvPicPr>
        <p:blipFill>
          <a:blip r:embed="rId2"/>
          <a:srcRect l="26891" t="0" r="0" b="0"/>
          <a:stretch/>
        </p:blipFill>
        <p:spPr>
          <a:xfrm>
            <a:off x="2916360" y="2924280"/>
            <a:ext cx="4535280" cy="296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5" descr="http://www.sendacow.org.uk/lessonsfromafrica/_assets/img/illustration_contact_us.jpg"/>
          <p:cNvPicPr/>
          <p:nvPr/>
        </p:nvPicPr>
        <p:blipFill>
          <a:blip r:embed="rId3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12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Getting to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3429000" y="2576520"/>
            <a:ext cx="22860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3429000" y="2576520"/>
            <a:ext cx="22860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3429000" y="2576520"/>
            <a:ext cx="22860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6" descr="thumbnail"/>
          <p:cNvPicPr/>
          <p:nvPr/>
        </p:nvPicPr>
        <p:blipFill>
          <a:blip r:embed="rId1"/>
          <a:stretch/>
        </p:blipFill>
        <p:spPr>
          <a:xfrm>
            <a:off x="4932360" y="4076640"/>
            <a:ext cx="2352600" cy="2089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3691707390_5dc8e6a383"/>
          <p:cNvPicPr/>
          <p:nvPr/>
        </p:nvPicPr>
        <p:blipFill>
          <a:blip r:embed="rId2"/>
          <a:srcRect l="0" t="0" r="0" b="8834"/>
          <a:stretch/>
        </p:blipFill>
        <p:spPr>
          <a:xfrm>
            <a:off x="4932360" y="2349360"/>
            <a:ext cx="1352520" cy="1521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980640"/>
            <a:ext cx="7416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leave for school at 6.15am. It takes us 45 minutes to walk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hool. On our walk we see squirrels, birds and someti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nak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3" descr="2415064975_dc1fd7a2d4"/>
          <p:cNvPicPr/>
          <p:nvPr/>
        </p:nvPicPr>
        <p:blipFill>
          <a:blip r:embed="rId3"/>
          <a:stretch/>
        </p:blipFill>
        <p:spPr>
          <a:xfrm>
            <a:off x="539640" y="2349360"/>
            <a:ext cx="4184640" cy="3383280"/>
          </a:xfrm>
          <a:prstGeom prst="rect">
            <a:avLst/>
          </a:prstGeom>
          <a:ln w="0">
            <a:noFill/>
          </a:ln>
        </p:spPr>
      </p:pic>
      <p:sp>
        <p:nvSpPr>
          <p:cNvPr id="98" name="Straight Connector 11"/>
          <p:cNvSpPr/>
          <p:nvPr/>
        </p:nvSpPr>
        <p:spPr>
          <a:xfrm>
            <a:off x="0" y="76500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5" descr="http://www.sendacow.org.uk/lessonsfromafrica/_assets/img/illustration_contact_us.jpg"/>
          <p:cNvPicPr/>
          <p:nvPr/>
        </p:nvPicPr>
        <p:blipFill>
          <a:blip r:embed="rId4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School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assembly at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7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200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 stand in lines depending on our grades. Students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ower grades stand in the fro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e sing the national anthem called ‘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imudzai Murez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’, (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hona or Ndebele), meaning ‘raise up the flag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 teacher picks a topic or a Biblical story and a pray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9"/>
          <p:cNvSpPr/>
          <p:nvPr/>
        </p:nvSpPr>
        <p:spPr>
          <a:xfrm>
            <a:off x="0" y="765000"/>
            <a:ext cx="7308720" cy="0"/>
          </a:xfrm>
          <a:prstGeom prst="line">
            <a:avLst/>
          </a:prstGeom>
          <a:ln w="4428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5" descr="http://www.sendacow.org.uk/lessonsfromafrica/_assets/img/illustration_contact_us.jpg"/>
          <p:cNvPicPr/>
          <p:nvPr/>
        </p:nvPicPr>
        <p:blipFill>
          <a:blip r:embed="rId1"/>
          <a:stretch/>
        </p:blipFill>
        <p:spPr>
          <a:xfrm>
            <a:off x="179280" y="6021360"/>
            <a:ext cx="1368360" cy="75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1.bp.blogspot.com/-9IaTFt4Yau4/T0vHxwcgwPI/AAAAAAAAC2M/OVvWBdBDlIM/s1600/DSC00199.JPG"/>
          <p:cNvPicPr/>
          <p:nvPr/>
        </p:nvPicPr>
        <p:blipFill>
          <a:blip r:embed="rId2"/>
          <a:srcRect l="50996" t="0" r="18246" b="0"/>
          <a:stretch/>
        </p:blipFill>
        <p:spPr>
          <a:xfrm>
            <a:off x="4552920" y="3141720"/>
            <a:ext cx="2881440" cy="286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2.bp.blogspot.com/_Gers_j962Jw/SYM0WML8MHI/AAAAAAAABvE/cnmyd3Vk0Zk/s400/IMG_4187_1_1.JPG"/>
          <p:cNvPicPr/>
          <p:nvPr/>
        </p:nvPicPr>
        <p:blipFill>
          <a:blip r:embed="rId3"/>
          <a:stretch/>
        </p:blipFill>
        <p:spPr>
          <a:xfrm>
            <a:off x="546120" y="31417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11:07:08Z</dcterms:created>
  <dc:creator>aivolunteer</dc:creator>
  <dc:description/>
  <dc:language>en-US</dc:language>
  <cp:lastModifiedBy>user</cp:lastModifiedBy>
  <dcterms:modified xsi:type="dcterms:W3CDTF">2012-12-02T16:34:21Z</dcterms:modified>
  <cp:revision>56</cp:revision>
  <dc:subject/>
  <dc:title>Slide 1</dc:title>
</cp:coreProperties>
</file>